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EE0-E5CD-49B3-95DF-C0B4D562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93C-4BD2-444A-8665-304600B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45E-9555-4B57-8572-27C55659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D2E-DB61-4D85-B3BF-95B08D85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FBF3-9CBE-4722-A0C3-503938F6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A6E-4A87-4F06-8CC9-ADEB65C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BCEC-8FF5-4475-9B93-EE3DE33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766E-6A18-4827-84FC-4145323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4C9B-2CC1-4FC3-B967-40C82FC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CA02-64D8-476C-A1EE-0E3076E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2AFE-03DB-4E34-AACA-01C15889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E89-55EB-43AC-9238-FC6CB477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9FF5-5D7B-47AB-B4C3-E7FC52E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1C7-B715-475D-A9E3-5AFABAC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461-5E21-48B4-B1E6-4D695210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E750-88BE-4FD9-B95B-47F1858B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3410-F707-4BCD-8CD3-AA38ACE4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B1A-1AA5-453D-9045-D2CADAA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A13-F9BD-45D9-B49A-CEDDBAE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47D-BEBF-439C-BD08-3B3A122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7A6-0B35-4302-946D-15FFB219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ADA-4959-48D9-A808-D382E89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EF1-DC99-414F-9932-0084D20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C97-6276-49B0-B699-842AD28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3AA-AD3D-4630-8F27-2B5DF41D66B6}" type="slidenum"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BEF4-FB39-4309-B277-FFBCECFC6A3E}" type="slidenum"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Hitler become Chancellor in 193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y Mr RJ Huggins 200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many businessmen support Hitl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y businessmen were afraid of what would happen to their property if the Communists took ove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se businessmen also hated the power of the trade unions which forced up the wages they paid their worker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promised to smash the Communists and the trade union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2" name="" descr="[Abbildung]"/>
          <p:cNvPicPr/>
          <p:nvPr/>
        </p:nvPicPr>
        <p:blipFill>
          <a:blip r:embed="rId1"/>
          <a:stretch/>
        </p:blipFill>
        <p:spPr>
          <a:xfrm>
            <a:off x="1600200" y="1676520"/>
            <a:ext cx="2960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idential Elections, 193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477120" cy="4271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00200" y="5638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How did the Presidential election affect Hitler’s popularity with the German people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f the Reichs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 July 1938, the Nazis won 38% of the seats in the Reichstag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demanded the job of chancello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ndenburg said no!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3048120" cy="5181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724280" y="4191120"/>
            <a:ext cx="4114800" cy="2361960"/>
          </a:xfrm>
          <a:prstGeom prst="wedgeRoundRectCallout">
            <a:avLst>
              <a:gd name="adj1" fmla="val 35532"/>
              <a:gd name="adj2" fmla="val -66060"/>
              <a:gd name="adj3" fmla="val 1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He could not risk transferring the power of government to a new party such as the National Socialist … which was intolerant, noisy &amp; undisciplined.’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91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ler becomes Chancel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600200" y="5943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Why did Hindenburg make Hitler Chancellor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why did Hitler become Chancellor in January 1933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 &amp;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the Nazis win more votes after the Wall Street Crash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the army and businessmen support the Nazi Part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Hindenburg change his mind and make Hitler Chancellor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Reaction to the 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Faced with massive unemployment the Weimar Republic had three option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Print more money and risk hyperinflation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Raise taxes to pay for unemployment benefi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Save money and cut unemployment benefi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The government couldn’t agree what to do and the SDP resigned from the governmen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The Chancellor Bruning resigned as different political parties fought for control of the Reichstag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id the German People view the arguments amongst their politicia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523880"/>
            <a:ext cx="2743200" cy="1219320"/>
          </a:xfrm>
          <a:prstGeom prst="leftArrowCallout">
            <a:avLst>
              <a:gd name="adj1" fmla="val 25002"/>
              <a:gd name="adj2" fmla="val 25000"/>
              <a:gd name="adj3" fmla="val 37496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oliticians argu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o should run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German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1600200"/>
            <a:ext cx="2743200" cy="1219320"/>
          </a:xfrm>
          <a:prstGeom prst="leftArrowCallout">
            <a:avLst>
              <a:gd name="adj1" fmla="val 25002"/>
              <a:gd name="adj2" fmla="val 25000"/>
              <a:gd name="adj3" fmla="val 37496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o Action 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aken to help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unemployed!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600200"/>
            <a:ext cx="1981080" cy="1828800"/>
          </a:xfrm>
          <a:prstGeom prst="downArrowCallout">
            <a:avLst>
              <a:gd name="adj1" fmla="val 27084"/>
              <a:gd name="adj2" fmla="val 27082"/>
              <a:gd name="adj3" fmla="val 16667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mise to take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429000"/>
            <a:ext cx="1981080" cy="198108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Votes for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2743200" cy="1219320"/>
          </a:xfrm>
          <a:prstGeom prst="rightArrowCallout">
            <a:avLst>
              <a:gd name="adj1" fmla="val 25002"/>
              <a:gd name="adj2" fmla="val 25000"/>
              <a:gd name="adj3" fmla="val 37496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Von Pape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becomes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Chancello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in 1932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410080"/>
            <a:ext cx="2895480" cy="1219320"/>
          </a:xfrm>
          <a:prstGeom prst="rightArrowCallout">
            <a:avLst>
              <a:gd name="adj1" fmla="val 25002"/>
              <a:gd name="adj2" fmla="val 25000"/>
              <a:gd name="adj3" fmla="val 39578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Papen is replace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by Schleiche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later that yea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648320"/>
            <a:ext cx="1752480" cy="1981080"/>
          </a:xfrm>
          <a:prstGeom prst="upArrowCallout">
            <a:avLst>
              <a:gd name="adj1" fmla="val 25002"/>
              <a:gd name="adj2" fmla="val 25000"/>
              <a:gd name="adj3" fmla="val 18841"/>
              <a:gd name="adj4" fmla="val 66660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o Action 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aken t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help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unemploye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00400"/>
            <a:ext cx="2590920" cy="1371600"/>
          </a:xfrm>
          <a:prstGeom prst="leftArrowCallout">
            <a:avLst>
              <a:gd name="adj1" fmla="val 25002"/>
              <a:gd name="adj2" fmla="val 25000"/>
              <a:gd name="adj3" fmla="val 31483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Votes for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743200"/>
            <a:ext cx="3505320" cy="2743200"/>
          </a:xfrm>
          <a:prstGeom prst="irregularSeal2">
            <a:avLst/>
          </a:pr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German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e their faith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Democrac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Propag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5235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azi Propaganda portrayed Hitler as Germany’s saviou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f elected he would bring order to Germany and create job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azi propaganda promised Germans that if Hitler was elected  he would give them ‘Jobs &amp; Bread’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3467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R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8840" y="1523520"/>
            <a:ext cx="39625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Nazis held mass rallies which were staged managed so that thousands could hear Hitler’s speech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ilitary music and flags were used to to give the impression that the Nazis represented orde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promised over and over again that he would give Germany strong leadership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3287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R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782040" cy="4514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5867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What does Hitler promise to do if was elected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people vote for the Naz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y people voted for the Nazis because they agreed with the Nazi idea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thers voted for the Nazi Party because they were desperate to vote for a party that would take action to put Germany back to work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23880" y="1676520"/>
            <a:ext cx="3124080" cy="4190400"/>
            <a:chOff x="1523880" y="1676520"/>
            <a:chExt cx="3124080" cy="4190400"/>
          </a:xfrm>
        </p:grpSpPr>
        <p:grpSp>
          <p:nvGrpSpPr>
            <p:cNvPr id="190" name=""/>
            <p:cNvGrpSpPr/>
            <p:nvPr/>
          </p:nvGrpSpPr>
          <p:grpSpPr>
            <a:xfrm>
              <a:off x="1523880" y="1676520"/>
              <a:ext cx="1028880" cy="598680"/>
              <a:chOff x="1523880" y="1676520"/>
              <a:chExt cx="1028880" cy="59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1587600" y="167652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Year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167652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552760" y="1676520"/>
              <a:ext cx="2095200" cy="598680"/>
              <a:chOff x="2552760" y="1676520"/>
              <a:chExt cx="2095200" cy="598680"/>
            </a:xfrm>
          </p:grpSpPr>
          <p:sp>
            <p:nvSpPr>
              <p:cNvPr id="194" name=""/>
              <p:cNvSpPr/>
              <p:nvPr/>
            </p:nvSpPr>
            <p:spPr>
              <a:xfrm>
                <a:off x="2616120" y="167652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Unemployed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52760" y="167652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523880" y="2275200"/>
              <a:ext cx="1028880" cy="598680"/>
              <a:chOff x="1523880" y="2275200"/>
              <a:chExt cx="1028880" cy="598680"/>
            </a:xfrm>
          </p:grpSpPr>
          <p:sp>
            <p:nvSpPr>
              <p:cNvPr id="197" name=""/>
              <p:cNvSpPr/>
              <p:nvPr/>
            </p:nvSpPr>
            <p:spPr>
              <a:xfrm>
                <a:off x="1587600" y="227520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28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3880" y="227520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552760" y="2275200"/>
              <a:ext cx="2095200" cy="598680"/>
              <a:chOff x="2552760" y="2275200"/>
              <a:chExt cx="2095200" cy="598680"/>
            </a:xfrm>
          </p:grpSpPr>
          <p:sp>
            <p:nvSpPr>
              <p:cNvPr id="200" name=""/>
              <p:cNvSpPr/>
              <p:nvPr/>
            </p:nvSpPr>
            <p:spPr>
              <a:xfrm>
                <a:off x="2616120" y="227520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65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52760" y="227520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523880" y="2873880"/>
              <a:ext cx="1028880" cy="598680"/>
              <a:chOff x="1523880" y="2873880"/>
              <a:chExt cx="1028880" cy="598680"/>
            </a:xfrm>
          </p:grpSpPr>
          <p:sp>
            <p:nvSpPr>
              <p:cNvPr id="203" name=""/>
              <p:cNvSpPr/>
              <p:nvPr/>
            </p:nvSpPr>
            <p:spPr>
              <a:xfrm>
                <a:off x="1587600" y="287388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29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23880" y="287388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552760" y="2873880"/>
              <a:ext cx="2095200" cy="598680"/>
              <a:chOff x="2552760" y="2873880"/>
              <a:chExt cx="2095200" cy="598680"/>
            </a:xfrm>
          </p:grpSpPr>
          <p:sp>
            <p:nvSpPr>
              <p:cNvPr id="206" name=""/>
              <p:cNvSpPr/>
              <p:nvPr/>
            </p:nvSpPr>
            <p:spPr>
              <a:xfrm>
                <a:off x="2616120" y="287388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 32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52760" y="287388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523880" y="3472560"/>
              <a:ext cx="1028880" cy="598680"/>
              <a:chOff x="1523880" y="3472560"/>
              <a:chExt cx="1028880" cy="598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587600" y="347256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23880" y="347256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552760" y="3472560"/>
              <a:ext cx="2095200" cy="598680"/>
              <a:chOff x="2552760" y="3472560"/>
              <a:chExt cx="2095200" cy="598680"/>
            </a:xfrm>
          </p:grpSpPr>
          <p:sp>
            <p:nvSpPr>
              <p:cNvPr id="212" name=""/>
              <p:cNvSpPr/>
              <p:nvPr/>
            </p:nvSpPr>
            <p:spPr>
              <a:xfrm>
                <a:off x="2616120" y="347256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3 00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52760" y="347256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523880" y="4071240"/>
              <a:ext cx="1028880" cy="598680"/>
              <a:chOff x="1523880" y="4071240"/>
              <a:chExt cx="1028880" cy="598680"/>
            </a:xfrm>
          </p:grpSpPr>
          <p:sp>
            <p:nvSpPr>
              <p:cNvPr id="215" name=""/>
              <p:cNvSpPr/>
              <p:nvPr/>
            </p:nvSpPr>
            <p:spPr>
              <a:xfrm>
                <a:off x="1587600" y="407124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1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23880" y="407124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552760" y="4071240"/>
              <a:ext cx="2095200" cy="598680"/>
              <a:chOff x="2552760" y="4071240"/>
              <a:chExt cx="2095200" cy="598680"/>
            </a:xfrm>
          </p:grpSpPr>
          <p:sp>
            <p:nvSpPr>
              <p:cNvPr id="218" name=""/>
              <p:cNvSpPr/>
              <p:nvPr/>
            </p:nvSpPr>
            <p:spPr>
              <a:xfrm>
                <a:off x="2616120" y="407124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4 35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2760" y="407124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23880" y="4669920"/>
              <a:ext cx="1028880" cy="598320"/>
              <a:chOff x="1523880" y="4669920"/>
              <a:chExt cx="1028880" cy="598320"/>
            </a:xfrm>
          </p:grpSpPr>
          <p:sp>
            <p:nvSpPr>
              <p:cNvPr id="221" name=""/>
              <p:cNvSpPr/>
              <p:nvPr/>
            </p:nvSpPr>
            <p:spPr>
              <a:xfrm>
                <a:off x="1587600" y="4669920"/>
                <a:ext cx="901080" cy="5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2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23880" y="4669920"/>
                <a:ext cx="1028880" cy="5983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552760" y="4669920"/>
              <a:ext cx="2095200" cy="598320"/>
              <a:chOff x="2552760" y="4669920"/>
              <a:chExt cx="2095200" cy="598320"/>
            </a:xfrm>
          </p:grpSpPr>
          <p:sp>
            <p:nvSpPr>
              <p:cNvPr id="224" name=""/>
              <p:cNvSpPr/>
              <p:nvPr/>
            </p:nvSpPr>
            <p:spPr>
              <a:xfrm>
                <a:off x="2616120" y="4669920"/>
                <a:ext cx="1967760" cy="5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5 102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52760" y="4669920"/>
                <a:ext cx="2095200" cy="5983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523880" y="5268240"/>
              <a:ext cx="1028880" cy="598680"/>
              <a:chOff x="1523880" y="5268240"/>
              <a:chExt cx="1028880" cy="59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1587600" y="526824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3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23880" y="526824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552760" y="5268240"/>
              <a:ext cx="2095200" cy="598680"/>
              <a:chOff x="2552760" y="5268240"/>
              <a:chExt cx="2095200" cy="598680"/>
            </a:xfrm>
          </p:grpSpPr>
          <p:sp>
            <p:nvSpPr>
              <p:cNvPr id="230" name=""/>
              <p:cNvSpPr/>
              <p:nvPr/>
            </p:nvSpPr>
            <p:spPr>
              <a:xfrm>
                <a:off x="2616120" y="526824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6 10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2760" y="526824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people vote for the Naz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57800" y="4800600"/>
            <a:ext cx="3200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s 1933 election Poster says 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‘Hitler our last hope.’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66800" y="1523880"/>
            <a:ext cx="33354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410080" y="1523880"/>
            <a:ext cx="3200040" cy="3124080"/>
            <a:chOff x="5410080" y="1523880"/>
            <a:chExt cx="3200040" cy="3124080"/>
          </a:xfrm>
        </p:grpSpPr>
        <p:sp>
          <p:nvSpPr>
            <p:cNvPr id="236" name=""/>
            <p:cNvSpPr/>
            <p:nvPr/>
          </p:nvSpPr>
          <p:spPr>
            <a:xfrm>
              <a:off x="5410080" y="1523880"/>
              <a:ext cx="32000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10080" y="1523880"/>
              <a:ext cx="32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410080" y="1523880"/>
              <a:ext cx="3123360" cy="3124080"/>
              <a:chOff x="5410080" y="1523880"/>
              <a:chExt cx="3123360" cy="31240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410080" y="1523880"/>
                <a:ext cx="1438200" cy="774000"/>
                <a:chOff x="5410080" y="1523880"/>
                <a:chExt cx="1438200" cy="774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492160" y="1523880"/>
                  <a:ext cx="1274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Year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410080" y="1523880"/>
                  <a:ext cx="1438200" cy="77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848640" y="1523880"/>
                <a:ext cx="1684800" cy="774000"/>
                <a:chOff x="6848640" y="1523880"/>
                <a:chExt cx="1684800" cy="774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930720" y="1523880"/>
                  <a:ext cx="152064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Number of Votes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848640" y="1523880"/>
                  <a:ext cx="1684800" cy="77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410080" y="2297880"/>
                <a:ext cx="1438200" cy="587520"/>
                <a:chOff x="5410080" y="2297880"/>
                <a:chExt cx="1438200" cy="5875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492160" y="229788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28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410080" y="229788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48640" y="2297880"/>
                <a:ext cx="1684800" cy="587520"/>
                <a:chOff x="6848640" y="2297880"/>
                <a:chExt cx="1684800" cy="587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30720" y="229788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     </a:t>
                  </a: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8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48640" y="229788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410080" y="2885400"/>
                <a:ext cx="1438200" cy="587520"/>
                <a:chOff x="5410080" y="2885400"/>
                <a:chExt cx="1438200" cy="5875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492160" y="288540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410080" y="288540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848640" y="2885400"/>
                <a:ext cx="1684800" cy="587520"/>
                <a:chOff x="6848640" y="2885400"/>
                <a:chExt cx="1684800" cy="587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930720" y="288540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6 4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48640" y="288540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410080" y="3472920"/>
                <a:ext cx="1438200" cy="587520"/>
                <a:chOff x="5410080" y="3472920"/>
                <a:chExt cx="1438200" cy="587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492160" y="347292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2 July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10080" y="347292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48640" y="3472920"/>
                <a:ext cx="1684800" cy="587520"/>
                <a:chOff x="6848640" y="3472920"/>
                <a:chExt cx="1684800" cy="5875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930720" y="347292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3 7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48640" y="347292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410080" y="4060440"/>
                <a:ext cx="1438200" cy="587520"/>
                <a:chOff x="5410080" y="4060440"/>
                <a:chExt cx="1438200" cy="587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492160" y="406044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2 Nov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10080" y="406044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848640" y="4060440"/>
                <a:ext cx="1684800" cy="587520"/>
                <a:chOff x="6848640" y="4060440"/>
                <a:chExt cx="1684800" cy="587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930720" y="406044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1 7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848640" y="406044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"/>
          <p:cNvSpPr/>
          <p:nvPr/>
        </p:nvSpPr>
        <p:spPr>
          <a:xfrm>
            <a:off x="1295280" y="60958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Times New Roman"/>
              </a:rPr>
              <a:t>What is the link between unemployment &amp; votes for the Nazi Party?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20:27:11Z</dcterms:created>
  <dc:creator>RJ Huggins</dc:creator>
  <dc:description/>
  <dc:language>en-US</dc:language>
  <cp:lastModifiedBy>redwards</cp:lastModifiedBy>
  <dcterms:modified xsi:type="dcterms:W3CDTF">2007-04-24T03:48:54Z</dcterms:modified>
  <cp:revision>16</cp:revision>
  <dc:subject/>
  <dc:title>Why did Hitler become Chancellor in 1932?</dc:title>
</cp:coreProperties>
</file>